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FD3-04A0-4695-8921-839CDA67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184-D3EE-4039-AD1C-B572AEE5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94C-1C10-42D1-A10D-52B4EA60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106-6626-4D64-A813-F41C6193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CCA-0C8C-4AAF-B2DE-6C55D2ED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0A0-7C61-4918-8AAC-D368EF63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B3C-9D16-41BC-98D6-E3E4D484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5C2-198A-43D2-BDBC-7FFA40D1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39B-C6F5-4CF6-8504-0D64CD3D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18F-DAE4-40CB-BE94-CFB9CF0B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99D-4316-4ACD-B008-E0A4283E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FA92-8899-4A25-B07D-E1AA4D59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8F04-BC0D-4316-918A-AED0C9514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Lord’s Pr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Father in heav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llowed be your na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kingdom c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will be d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 as in hea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today our daily b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give us our s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forgive th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sin against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ave us from the time of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deliver us from ev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kingdom, the pow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glory are y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1722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20:11Z</dcterms:created>
  <dc:creator>Anon Anon</dc:creator>
  <dc:description/>
  <dc:language>en-US</dc:language>
  <cp:lastModifiedBy>Anon Anon</cp:lastModifiedBy>
  <dcterms:modified xsi:type="dcterms:W3CDTF">2005-08-16T04:24:54Z</dcterms:modified>
  <cp:revision>12</cp:revision>
  <dc:subject/>
  <dc:title>Lord’s Prayer</dc:title>
</cp:coreProperties>
</file>